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956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596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3590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75956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596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47840" y="279360"/>
            <a:ext cx="70992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956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159680" y="141264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3590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75956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159680" y="3782520"/>
            <a:ext cx="22856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47840" y="279360"/>
            <a:ext cx="70992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6880" y="378252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590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6880" y="1412640"/>
            <a:ext cx="3464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359080" y="3782520"/>
            <a:ext cx="70992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6040" y="154080"/>
            <a:ext cx="955224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59080" y="1412640"/>
            <a:ext cx="709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59080" y="6453000"/>
            <a:ext cx="709920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B98CC5BF-EA98-4667-832D-8089F2CE7A04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8DB23BCB-E218-42A2-BFAB-C9CABCE699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80240" y="154080"/>
            <a:ext cx="99864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36120" y="154080"/>
            <a:ext cx="9921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74760" y="6442200"/>
            <a:ext cx="1360440" cy="282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121600" y="595440"/>
            <a:ext cx="15969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040" y="154080"/>
            <a:ext cx="955224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040" y="2924280"/>
            <a:ext cx="955224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7480" y="3050640"/>
            <a:ext cx="90104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1280" y="6122880"/>
            <a:ext cx="2224080" cy="457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480" y="3050640"/>
            <a:ext cx="901044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ertification concept for Project Managers</a:t>
            </a:r>
            <a:br>
              <a:rPr sz="3200"/>
            </a:b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Project Management @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d2435"/>
                </a:solidFill>
                <a:latin typeface="Arial"/>
              </a:rPr>
              <a:t>COM 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7480" y="4184280"/>
            <a:ext cx="901044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MD BL PSO CD, Michael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29016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4240" y="4703760"/>
            <a:ext cx="3508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– </a:t>
            </a:r>
            <a:r>
              <a:rPr b="1" lang="en-GB" sz="2400" spc="-1" strike="noStrike">
                <a:solidFill>
                  <a:srgbClr val="9e1d3e"/>
                </a:solidFill>
                <a:latin typeface="Arial"/>
              </a:rPr>
              <a:t>For internal use only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95565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pt for PM certification / Involved r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760" y="1335240"/>
            <a:ext cx="8036280" cy="38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ertification is an integral part of the project leader certification at Com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 certification will be handled similar to the SPM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of PM is handled as an individual assessment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of the PM certification assessment: 3 h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project management topics, leadership, team and commun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ed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are based on the “knowledge tes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d Assess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„Fach“ Assessors from Com 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Psychological Assessor (e. g. from Com HR / Com MD HR or ex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essment is focused on the following top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600" y="1335240"/>
            <a:ext cx="507996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management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management, contract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ment method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management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trol and repo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-solving and decision 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echniques, tim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ability/ Result 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33440" y="1341360"/>
            <a:ext cx="37980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ership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ching compet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ation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ing with conflicts and s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2760" y="3933720"/>
            <a:ext cx="2831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33080" y="2997360"/>
            <a:ext cx="3214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work 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work, team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2880" y="5516640"/>
            <a:ext cx="6481800" cy="431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 total: 18 topics within 120 min, means 6-7 min/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iteria for successful passing the PM assessment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8320" y="1347840"/>
            <a:ext cx="81007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lock 1 :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Project Management topics (in total 11 topic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ndidate can have 3 topics with a „2“ ra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Block 2 :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Leadership / Teamwork / Communication topics ( in total 7 topic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ndidate can have 2 topics with a „2“ rat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ning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3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.5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1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noon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3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.5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3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.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7840" y="279360"/>
            <a:ext cx="70992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agenda for PM assessment me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ing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0320" y="1371600"/>
            <a:ext cx="68403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 of the Assessment, Welcome and  Int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ject Manager presents his/her current project (on max. 5 slid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 the project 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estions from Assessors concerning: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project leadershi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team orien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communication ski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8.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ussion and documentation of the results within the assessor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8.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cation of the result to the 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.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 of the assess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for internal use onl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sm048137</cp:lastModifiedBy>
  <cp:lastPrinted>2004-03-18T12:12:20Z</cp:lastPrinted>
  <dcterms:modified xsi:type="dcterms:W3CDTF">2005-07-06T07:15:45Z</dcterms:modified>
  <cp:revision>2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48211552</vt:r8>
  </property>
  <property fmtid="{D5CDD505-2E9C-101B-9397-08002B2CF9AE}" pid="3" name="_AuthorEmail">
    <vt:lpwstr>Michael.Stock@siemens.com</vt:lpwstr>
  </property>
  <property fmtid="{D5CDD505-2E9C-101B-9397-08002B2CF9AE}" pid="4" name="_AuthorEmailDisplayName">
    <vt:lpwstr>Stock Michael Com MD BL PSO CD</vt:lpwstr>
  </property>
  <property fmtid="{D5CDD505-2E9C-101B-9397-08002B2CF9AE}" pid="5" name="_EmailSubject">
    <vt:lpwstr>Fragenkatalog und Ablauf für PM Zertifizierung</vt:lpwstr>
  </property>
</Properties>
</file>